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8665-8C38-4D7E-8B59-F775CC8315E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B21F-AA7B-44BD-B1BE-8FB592CC5DD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CC48-CB34-42D9-BE53-E420BC8FA24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FB0C-A50E-4828-8ADD-1422D345B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8DCF-49FA-4772-AC64-1C89E752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7CB6-B404-4842-9B37-DD0125DFD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B21D-07B3-4EDC-BB6F-598618635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6D71-2E95-4DAA-ABB6-B8EF20645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BB7C-D987-43BB-AB0B-35B714F5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53D7-27CF-4449-B000-5925CDAC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BB02-12A4-41BD-BBD4-68E1B7D7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FFE5-6204-4D8F-B871-A2EDAA80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65BD-B5D0-4C24-A2D6-5C63CBF9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6405-1B1E-4BBB-A48A-400C6D5B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BB4E-7878-4003-809F-82BDC06E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5E60-D510-4228-AE29-0E50549F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B232-7299-4528-A234-A7946B1D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A06B-7862-4391-974A-C2EF6CB0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084C-34E9-427F-8C52-9A854BB03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9355-AA0D-4E2A-AE4E-0D0FB0B2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CE0D-42BB-411E-9258-D9EBE594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BBE7-E803-4BA7-BEF0-C307F98F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673F-22A0-4841-A18C-9C1CED96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14AA-7E95-465C-B79B-2F2F94D7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4795-C776-4E21-8687-97F01CF6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8632-A123-4151-A7F9-3E044943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3FE9-8551-46A5-8C44-7FC90D8A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3EDD-0E80-4A60-8703-FF17E215BB5F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CB07-1833-40E1-857A-114AA518CD13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presscafe.eu/archives/2252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ypracowania24.pl/historia/7005/feudalizm-drabina-feudalna-syste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historiaokiemucznia.pl.tl/Ustr%F3j-feudalny.ht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pl.wikipedia.org/wiki/Plik:Reeve_and_Serfs.jpg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upload.wikimedia.org/wikipedia/commons/thumb/a/a3/Sark-aerial.jpg/800px-Sark-aerial.jpg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pl.wikipedia.org/wiki/Plik:Flag_of_Sark.svg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Relikty świata feudalnego </a:t>
            </a:r>
            <a:br>
              <a:rPr sz="4900"/>
            </a:b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w późniejszych epokach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Bartosz Rzoń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 wiesz, ż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09520" y="1534680"/>
            <a:ext cx="69249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a wyspie Sark zachowały się przykłady prawa średniowieczn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 Sarku wciąż formalnie istnieje (choć od dawna nie jest stosowana) instytucja "prawa pierwszej nocy" przysługująca seniorowi wys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enior Sarku ma prawo egzekwować od każdego dzierżawcy posiadanie muszkietu na wypadek konieczności obrony wys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ark jako ostatni kraj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Europie zrównał prawa kobiet i mężczyzn w zakresie dziedziczenia; wcześniej pierwszeństwo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dziedziczeniu mieli synowie (w 199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 w świecie polityki mamy jakieś elementy systemu feudalneg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D:\scenariusze lekcji do przetargu\do realizacji\Relikty swiata feudalnego\grafika\Rys_6_T07_9_polskie_partie.jpg"/>
          <p:cNvPicPr/>
          <p:nvPr/>
        </p:nvPicPr>
        <p:blipFill>
          <a:blip r:embed="rId1"/>
          <a:stretch/>
        </p:blipFill>
        <p:spPr>
          <a:xfrm>
            <a:off x="2112840" y="476280"/>
            <a:ext cx="4918320" cy="4917960"/>
          </a:xfrm>
          <a:prstGeom prst="rect">
            <a:avLst/>
          </a:prstGeom>
          <a:ln w="0">
            <a:noFill/>
          </a:ln>
        </p:spPr>
      </p:pic>
      <p:sp>
        <p:nvSpPr>
          <p:cNvPr id="129" name="pole tekstowe 3"/>
          <p:cNvSpPr/>
          <p:nvPr/>
        </p:nvSpPr>
        <p:spPr>
          <a:xfrm>
            <a:off x="2138040" y="5589720"/>
            <a:ext cx="192132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resscafe.eu/archives/225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 jak to wygląda dzisiaj?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amy pozostałości obyczajowości feudalnej w kulturze społecznej? 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ole tekstowe 5"/>
          <p:cNvSpPr/>
          <p:nvPr/>
        </p:nvSpPr>
        <p:spPr>
          <a:xfrm>
            <a:off x="4643280" y="4653000"/>
            <a:ext cx="324180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8 Kardynałowi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http://www.tokfm.pl/Tokfm/5,102433,13545992,Kardynalowie_w_bazylice__a_przed_nia_tlum_reporterow.html?i=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ole tekstowe 11"/>
          <p:cNvSpPr/>
          <p:nvPr/>
        </p:nvSpPr>
        <p:spPr>
          <a:xfrm>
            <a:off x="468360" y="4724280"/>
            <a:ext cx="3240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7 Sej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http://www.rzeszow4u.pl/polska/minister-sprawiedliwosci-nie-bedzie-prokuratorem-generalnym---sejm-odrzucil-weto-prezydenta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D:\scenariusze lekcji do przetargu\do realizacji\Relikty swiata feudalnego\grafika\Rys_7_T07_9_sejm.jpg"/>
          <p:cNvPicPr/>
          <p:nvPr/>
        </p:nvPicPr>
        <p:blipFill>
          <a:blip r:embed="rId1"/>
          <a:stretch/>
        </p:blipFill>
        <p:spPr>
          <a:xfrm>
            <a:off x="468360" y="2060640"/>
            <a:ext cx="3821040" cy="2547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D:\scenariusze lekcji do przetargu\do realizacji\Relikty swiata feudalnego\grafika\Rys_8_T07_9_kardynalowie.jpg"/>
          <p:cNvPicPr/>
          <p:nvPr/>
        </p:nvPicPr>
        <p:blipFill>
          <a:blip r:embed="rId2"/>
          <a:stretch/>
        </p:blipFill>
        <p:spPr>
          <a:xfrm>
            <a:off x="4811760" y="2060640"/>
            <a:ext cx="379872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D:\scenariusze lekcji do przetargu\do realizacji\Relikty swiata feudalnego\grafika\Rys_9_T07_9_Korporacja.jpg"/>
          <p:cNvPicPr/>
          <p:nvPr/>
        </p:nvPicPr>
        <p:blipFill>
          <a:blip r:embed="rId1"/>
          <a:stretch/>
        </p:blipFill>
        <p:spPr>
          <a:xfrm>
            <a:off x="539640" y="907920"/>
            <a:ext cx="4038840" cy="3767400"/>
          </a:xfrm>
          <a:prstGeom prst="rect">
            <a:avLst/>
          </a:prstGeom>
          <a:ln w="0">
            <a:noFill/>
          </a:ln>
        </p:spPr>
      </p:pic>
      <p:sp>
        <p:nvSpPr>
          <p:cNvPr id="136" name="pole tekstowe 5"/>
          <p:cNvSpPr/>
          <p:nvPr/>
        </p:nvSpPr>
        <p:spPr>
          <a:xfrm>
            <a:off x="480960" y="4797360"/>
            <a:ext cx="21574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9 Korporacj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http://www.zboku.pl/zdjecie,iId,36646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D:\scenariusze lekcji do przetargu\do realizacji\Relikty swiata feudalnego\grafika\Rys_10_T07_9_uczelnia.jpg"/>
          <p:cNvPicPr/>
          <p:nvPr/>
        </p:nvPicPr>
        <p:blipFill>
          <a:blip r:embed="rId2"/>
          <a:stretch/>
        </p:blipFill>
        <p:spPr>
          <a:xfrm>
            <a:off x="5003640" y="836640"/>
            <a:ext cx="3357720" cy="4525920"/>
          </a:xfrm>
          <a:prstGeom prst="rect">
            <a:avLst/>
          </a:prstGeom>
          <a:ln w="0">
            <a:noFill/>
          </a:ln>
        </p:spPr>
      </p:pic>
      <p:sp>
        <p:nvSpPr>
          <p:cNvPr id="138" name="pole tekstowe 7"/>
          <p:cNvSpPr/>
          <p:nvPr/>
        </p:nvSpPr>
        <p:spPr>
          <a:xfrm>
            <a:off x="4932360" y="5445000"/>
            <a:ext cx="396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0 Uczelni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Źródło: http://3obieg.pl/poradnik-dla-przyszlych-studentow-warszawskic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C:\Users\Bartek\Downloads\rodzina.jpg"/>
          <p:cNvPicPr/>
          <p:nvPr/>
        </p:nvPicPr>
        <p:blipFill>
          <a:blip r:embed="rId1"/>
          <a:stretch/>
        </p:blipFill>
        <p:spPr>
          <a:xfrm>
            <a:off x="1692360" y="620640"/>
            <a:ext cx="5715000" cy="4657680"/>
          </a:xfrm>
          <a:prstGeom prst="rect">
            <a:avLst/>
          </a:prstGeom>
          <a:ln w="0">
            <a:noFill/>
          </a:ln>
        </p:spPr>
      </p:pic>
      <p:sp>
        <p:nvSpPr>
          <p:cNvPr id="140" name="pole tekstowe 8"/>
          <p:cNvSpPr/>
          <p:nvPr/>
        </p:nvSpPr>
        <p:spPr>
          <a:xfrm>
            <a:off x="1707480" y="5589720"/>
            <a:ext cx="2326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1 Rodzin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http://sp2nowe.edupage.org/news/?zac=8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 w innych sferac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D:\scenariusze lekcji do przetargu\do realizacji\Relikty swiata feudalnego\grafika\Rys_12_T07_9_don_corleone.jpg"/>
          <p:cNvPicPr/>
          <p:nvPr/>
        </p:nvPicPr>
        <p:blipFill>
          <a:blip r:embed="rId1"/>
          <a:stretch/>
        </p:blipFill>
        <p:spPr>
          <a:xfrm>
            <a:off x="1332000" y="1700280"/>
            <a:ext cx="630216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http://www.youtube.com/watch?v=FetPfbmy4P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rótkie przypomnie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elikty feudalne w późniejszych epokach – „czy wiesz, że”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Świat polityki a prawa feudal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zisiejsza kultura społeczna a feudaliz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nne sfe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rótka powtór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Feudalizm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-  formacja społeczno-gospodarcza,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której dominowała wielka własność ziemska. Własność ziemi dawała władzę nad chłopami, którzy utrzymywali i dostarczali dochody swemu panu. Był to również ustrój prawny, oparty na więziach między seniorem i wasalem oraz nadaniu lenna. Dominował w Europie Zachodni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D:\scenariusze lekcji do przetargu\do realizacji\Relikty swiata feudalnego\grafika\Rys_1_T07_9_danina.jpg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4240"/>
          </a:xfrm>
          <a:prstGeom prst="rect">
            <a:avLst/>
          </a:prstGeom>
          <a:ln w="0">
            <a:noFill/>
          </a:ln>
        </p:spPr>
      </p:pic>
      <p:sp>
        <p:nvSpPr>
          <p:cNvPr id="102" name="pole tekstowe 6"/>
          <p:cNvSpPr/>
          <p:nvPr/>
        </p:nvSpPr>
        <p:spPr>
          <a:xfrm>
            <a:off x="4600440" y="5300640"/>
            <a:ext cx="368460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ypracowania24.pl/historia/7005/feudalizm-drabina-feudalna-syste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rótka powtór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asal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- człowiek wolny, który przysięgał wierność człowiekowi możnemu- swojemu seniorowi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zamian otrzymywał opiekę i utrzymanie, najczęściej w formie nadania ziemi, zobowiązując się służyć seniorowi radą i pomocą wojskow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D:\scenariusze lekcji do przetargu\do realizacji\Relikty swiata feudalnego\grafika\Rys_2_T07_9_hold_lenny.jpg"/>
          <p:cNvPicPr/>
          <p:nvPr/>
        </p:nvPicPr>
        <p:blipFill>
          <a:blip r:embed="rId1"/>
          <a:stretch/>
        </p:blipFill>
        <p:spPr>
          <a:xfrm>
            <a:off x="457200" y="2475000"/>
            <a:ext cx="4038480" cy="2776320"/>
          </a:xfrm>
          <a:prstGeom prst="rect">
            <a:avLst/>
          </a:prstGeom>
          <a:ln w="0">
            <a:noFill/>
          </a:ln>
        </p:spPr>
      </p:pic>
      <p:sp>
        <p:nvSpPr>
          <p:cNvPr id="106" name="pole tekstowe 5"/>
          <p:cNvSpPr/>
          <p:nvPr/>
        </p:nvSpPr>
        <p:spPr>
          <a:xfrm>
            <a:off x="416880" y="5300640"/>
            <a:ext cx="278064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historiaokiemucznia.pl.tl/Ustr%F3j-feudalny.ht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rótka powtór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ddaństwo -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łożenie prawne i ekonomiczne chłopów w średniowieczu, wyrażające ich zależność od feudała. Poddani chłopi byli zobowiązani do prac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różnego rodzaju danin na rzecz pana, musieli uzyskać jego zgodę na zawarcie małżeństwa, mieli także ograniczona swobodę opuszczania gospodarst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D:\scenariusze lekcji do przetargu\do realizacji\Relikty swiata feudalnego\grafika\Rys_3_T07_9_poddani.jpg"/>
          <p:cNvPicPr/>
          <p:nvPr/>
        </p:nvPicPr>
        <p:blipFill>
          <a:blip r:embed="rId1"/>
          <a:stretch/>
        </p:blipFill>
        <p:spPr>
          <a:xfrm>
            <a:off x="4572000" y="2205000"/>
            <a:ext cx="3971880" cy="2289240"/>
          </a:xfrm>
          <a:prstGeom prst="rect">
            <a:avLst/>
          </a:prstGeom>
          <a:ln w="0">
            <a:noFill/>
          </a:ln>
        </p:spPr>
      </p:pic>
      <p:sp>
        <p:nvSpPr>
          <p:cNvPr id="110" name="pole tekstowe 5"/>
          <p:cNvSpPr/>
          <p:nvPr/>
        </p:nvSpPr>
        <p:spPr>
          <a:xfrm>
            <a:off x="4594680" y="4581360"/>
            <a:ext cx="271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l.wikipedia.org/wiki/Plik:Reeve_and_Serfs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 odnajdujemy relikty świata feudalnego w późniejszych epokac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 wiesz, ż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yspa Sark to </a:t>
            </a: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de facto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 feudalna monarchia dziedziczna pod władzą seniora, uznająca zwierzchność króla Angli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D:\scenariusze lekcji do przetargu\do realizacji\Relikty swiata feudalnego\grafika\Rys_4_T07_9wyspa_Sark.jpg"/>
          <p:cNvPicPr/>
          <p:nvPr/>
        </p:nvPicPr>
        <p:blipFill>
          <a:blip r:embed="rId1"/>
          <a:stretch/>
        </p:blipFill>
        <p:spPr>
          <a:xfrm>
            <a:off x="4572000" y="1700280"/>
            <a:ext cx="4037040" cy="2665440"/>
          </a:xfrm>
          <a:prstGeom prst="rect">
            <a:avLst/>
          </a:prstGeom>
          <a:ln w="0">
            <a:noFill/>
          </a:ln>
        </p:spPr>
      </p:pic>
      <p:sp>
        <p:nvSpPr>
          <p:cNvPr id="115" name="pole tekstowe 5"/>
          <p:cNvSpPr/>
          <p:nvPr/>
        </p:nvSpPr>
        <p:spPr>
          <a:xfrm>
            <a:off x="4472640" y="4437000"/>
            <a:ext cx="464004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4 Wyspa Sark z lotu ptak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upload.wikimedia.org/wikipedia/commons/thumb/a/a3/Sark-aerial.jpg/800px-Sark-aerial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Flaga Sark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D:\scenariusze lekcji do przetargu\do realizacji\Relikty swiata feudalnego\grafika\Rys_5_T07_9_Flaga_Sarku.png"/>
          <p:cNvPicPr/>
          <p:nvPr/>
        </p:nvPicPr>
        <p:blipFill>
          <a:blip r:embed="rId1"/>
          <a:stretch/>
        </p:blipFill>
        <p:spPr>
          <a:xfrm>
            <a:off x="1116000" y="1268280"/>
            <a:ext cx="6905520" cy="4143600"/>
          </a:xfrm>
          <a:prstGeom prst="rect">
            <a:avLst/>
          </a:prstGeom>
          <a:ln w="0">
            <a:noFill/>
          </a:ln>
        </p:spPr>
      </p:pic>
      <p:sp>
        <p:nvSpPr>
          <p:cNvPr id="118" name="pole tekstowe 8"/>
          <p:cNvSpPr/>
          <p:nvPr/>
        </p:nvSpPr>
        <p:spPr>
          <a:xfrm>
            <a:off x="1135440" y="5516640"/>
            <a:ext cx="256284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l.wikipedia.org/wiki/Plik:Flag_of_Sark.svg</a:t>
            </a: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 wiesz, ż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01880" y="1534680"/>
            <a:ext cx="71402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a wyspie Sark zachowały się przykłady prawa średniowieczn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awo męża do wychłostania żo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średniowieczny zwyczaj 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Clameur de Haro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który pozwala obywatelowi na zwołanie sądu do rozpatrzenia spraw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sytuacji, gdy uważa on, że jego prawa zostały narusz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ark, jako ostatni kraj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Europie zachodniej usunął karę śmierci ze swojego ustawodawstw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czasach pokoju (w 2004 r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Bartek</cp:lastModifiedBy>
  <dcterms:modified xsi:type="dcterms:W3CDTF">2013-06-12T19:59:16Z</dcterms:modified>
  <cp:revision>44</cp:revision>
  <dc:subject/>
  <dc:title>Slajd 1</dc:title>
</cp:coreProperties>
</file>